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5F4-3FAF-49AE-929B-4D96C1AD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156-80AB-4DDD-B496-29C79F5F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E00-2835-4700-9F5E-E8C5DB58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AB10-A7EF-40D3-90AE-46CFFFDB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4C6A-59C3-4F8B-9275-CC8D04A3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1AC0-EE28-4229-AE35-FF290144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8599-4ECF-47B3-A75C-C2019DBE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1A16-72D7-4862-AE24-3FABF8CA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01F2-C0C6-4E25-84CF-EC2EA38E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4F19-2C0D-483A-ACF3-84284502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2E00-E0C7-4102-B335-381EFEE2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D743-7795-491F-BBBF-89AE6A3A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0417-3D77-4D70-938B-9109C07D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B83D-94FF-41BE-9E1E-4436A036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CC6B-9B05-48B1-9957-4C9E6733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8094-CBAF-4858-9902-B1E2B407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5696-5A77-4216-93EB-3DCB4B02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D61-A5E1-4505-B15D-EDDBE965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22A-9B12-453C-8B10-3D9CE8E9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3FD-8F7F-4659-8642-83666D8D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49B-F0D1-4E0A-A19B-79262D11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ABD-F815-4721-B84A-1B75F08F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D017-9680-4F6C-8C69-57E3D95D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8DF-D6AB-4516-9B89-62DEE4C2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2AAE-C38E-43E8-B8F8-9D60D50E0A93}" type="slidenum">
              <a:rPr b="0" lang="en-US" sz="14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565A-38AC-4210-9551-8BFF291EE11D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ff"/>
                </a:solidFill>
                <a:latin typeface="Arial"/>
              </a:rPr>
              <a:t>九月度座談会御書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0" y="4648320"/>
            <a:ext cx="4572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＊＊地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09680"/>
            <a:ext cx="7238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ff"/>
                </a:solidFill>
                <a:latin typeface="Arial"/>
              </a:rPr>
              <a:t>如説修行抄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ff"/>
                </a:solidFill>
                <a:latin typeface="Arial"/>
              </a:rPr>
              <a:t>背景と大意</a:t>
            </a:r>
            <a:endParaRPr b="0" lang="en-US" sz="6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文永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年五月　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才御作　　　　　　　　　与門下一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題号「仏の説の如く修行する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師弟不二こそ如説修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大難と弾圧の連続に退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三類の強敵出現は経文通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大難を恐れず広布に前進せ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ff"/>
                </a:solidFill>
                <a:latin typeface="Arial"/>
              </a:rPr>
              <a:t>法華折伏・破権門理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5181120"/>
            <a:ext cx="7772400" cy="1295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0000"/>
                </a:solidFill>
                <a:latin typeface="Arial"/>
              </a:rPr>
              <a:t>折伏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こそ法華経の根本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末法の</a:t>
            </a:r>
            <a:r>
              <a:rPr b="1" lang="ja-JP" sz="3600" spc="-1" strike="noStrike">
                <a:solidFill>
                  <a:srgbClr val="ff0000"/>
                </a:solidFill>
                <a:latin typeface="Arial"/>
              </a:rPr>
              <a:t>時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に適った修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219320"/>
            <a:ext cx="7848720" cy="129528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法華は</a:t>
            </a:r>
            <a:r>
              <a:rPr b="1" lang="ja-JP" sz="4000" spc="-1" strike="noStrike">
                <a:solidFill>
                  <a:srgbClr val="ff0000"/>
                </a:solidFill>
                <a:latin typeface="Times New Roman"/>
              </a:rPr>
              <a:t>折伏</a:t>
            </a: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にし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権門の理を破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819520"/>
            <a:ext cx="1447560" cy="83808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折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2895480"/>
            <a:ext cx="53316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92760" y="2692440"/>
            <a:ext cx="319824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邪義を</a:t>
            </a:r>
            <a:r>
              <a:rPr b="1" lang="ja-JP" sz="3600" spc="-1" strike="noStrike">
                <a:solidFill>
                  <a:srgbClr val="ff0000"/>
                </a:solidFill>
                <a:latin typeface="Times New Roman"/>
              </a:rPr>
              <a:t>破折</a:t>
            </a: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し</a:t>
            </a:r>
            <a:r>
              <a:rPr b="1" lang="ja-JP" sz="3600" spc="-1" strike="noStrike">
                <a:solidFill>
                  <a:srgbClr val="ff0000"/>
                </a:solidFill>
                <a:latin typeface="Times New Roman"/>
              </a:rPr>
              <a:t>屈伏</a:t>
            </a: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させ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正法に目覚めさせ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4114800"/>
            <a:ext cx="1295640" cy="7621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摂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4267080"/>
            <a:ext cx="5331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10600" y="3886200"/>
            <a:ext cx="237528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相手の主張を認め、少しず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正法に導いてい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ff"/>
                </a:solidFill>
                <a:latin typeface="Arial"/>
              </a:rPr>
              <a:t>四安楽の修行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安楽行品に説かれる</a:t>
            </a:r>
            <a:r>
              <a:rPr b="1" lang="ja-JP" sz="4400" spc="-1" strike="noStrike">
                <a:solidFill>
                  <a:srgbClr val="0000cc"/>
                </a:solidFill>
                <a:latin typeface="Arial"/>
              </a:rPr>
              <a:t>摂受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の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身、口、意、誓願、の四安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cc"/>
                </a:solidFill>
                <a:latin typeface="Arial"/>
              </a:rPr>
              <a:t>消極的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な摂受の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962520"/>
            <a:ext cx="2819520" cy="1600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冬に種ま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宵に鳴く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267080"/>
            <a:ext cx="76212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23840" y="3759120"/>
            <a:ext cx="2314440" cy="1922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5050"/>
                </a:solidFill>
                <a:latin typeface="Times New Roman"/>
              </a:rPr>
              <a:t>物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時代に合わな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役に立たな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ff"/>
                </a:solidFill>
                <a:latin typeface="Arial"/>
              </a:rPr>
              <a:t>権実雑乱の時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2952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99192" dir="2381944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実経</a:t>
            </a: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法華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362320"/>
            <a:ext cx="2819520" cy="83808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19669" dir="348186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権経</a:t>
            </a: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爾前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32880" y="1295280"/>
            <a:ext cx="1857240" cy="19227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ff0000"/>
                </a:solidFill>
                <a:latin typeface="Times New Roman"/>
              </a:rPr>
              <a:t>権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ff0000"/>
                </a:solidFill>
                <a:latin typeface="Times New Roman"/>
              </a:rPr>
              <a:t>　雑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1371600"/>
            <a:ext cx="1905120" cy="838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悟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2362320"/>
            <a:ext cx="2057400" cy="838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迷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1295280"/>
            <a:ext cx="2971800" cy="1905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虚偽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ffff00"/>
                </a:solidFill>
                <a:latin typeface="Times New Roman"/>
              </a:rPr>
              <a:t>　邪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3733920"/>
            <a:ext cx="7543800" cy="243828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末法は雑乱の時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00"/>
                </a:solidFill>
                <a:latin typeface="Times New Roman"/>
              </a:rPr>
              <a:t>現代</a:t>
            </a: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も同じ時代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00"/>
                </a:solidFill>
                <a:latin typeface="Times New Roman"/>
              </a:rPr>
              <a:t>生命の魔性</a:t>
            </a: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を断ち切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70120" y="1295280"/>
            <a:ext cx="3838320" cy="3751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0" spc="-1" strike="noStrike">
                <a:solidFill>
                  <a:srgbClr val="ff0000"/>
                </a:solidFill>
                <a:latin typeface="Times New Roman"/>
              </a:rPr>
              <a:t>折伏</a:t>
            </a:r>
            <a:endParaRPr b="0" lang="en-US" sz="2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ff"/>
                </a:solidFill>
                <a:latin typeface="Arial"/>
              </a:rPr>
              <a:t>まとめ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Arial"/>
              </a:rPr>
              <a:t>如説修行</a:t>
            </a: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こそ</a:t>
            </a:r>
            <a:r>
              <a:rPr b="1" lang="ja-JP" sz="4800" spc="-1" strike="noStrike">
                <a:solidFill>
                  <a:srgbClr val="0000ff"/>
                </a:solidFill>
                <a:latin typeface="Arial"/>
              </a:rPr>
              <a:t>成仏</a:t>
            </a: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の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法華経の根本精神は</a:t>
            </a:r>
            <a:r>
              <a:rPr b="1" lang="ja-JP" sz="4800" spc="-1" strike="noStrike">
                <a:solidFill>
                  <a:srgbClr val="ff0000"/>
                </a:solidFill>
                <a:latin typeface="Arial"/>
              </a:rPr>
              <a:t>折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Arial"/>
              </a:rPr>
              <a:t>邪義を破折</a:t>
            </a: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し</a:t>
            </a:r>
            <a:r>
              <a:rPr b="1" lang="ja-JP" sz="4800" spc="-1" strike="noStrike">
                <a:solidFill>
                  <a:srgbClr val="ff0000"/>
                </a:solidFill>
                <a:latin typeface="Arial"/>
              </a:rPr>
              <a:t>屈伏</a:t>
            </a: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させ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四安楽行の</a:t>
            </a:r>
            <a:r>
              <a:rPr b="1" lang="ja-JP" sz="4800" spc="-1" strike="noStrike">
                <a:solidFill>
                  <a:srgbClr val="0000ff"/>
                </a:solidFill>
                <a:latin typeface="Arial"/>
              </a:rPr>
              <a:t>摂受</a:t>
            </a: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1" lang="ja-JP" sz="4800" spc="-1" strike="noStrike">
                <a:solidFill>
                  <a:srgbClr val="ff0000"/>
                </a:solidFill>
                <a:latin typeface="Arial"/>
              </a:rPr>
              <a:t>物怪</a:t>
            </a: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の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ff"/>
                </a:solidFill>
                <a:latin typeface="Arial"/>
              </a:rPr>
              <a:t>雑乱の時</a:t>
            </a: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1" lang="ja-JP" sz="4800" spc="-1" strike="noStrike">
                <a:solidFill>
                  <a:srgbClr val="ff0000"/>
                </a:solidFill>
                <a:latin typeface="Arial"/>
              </a:rPr>
              <a:t>折伏</a:t>
            </a: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で魔を断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23:48:30Z</dcterms:created>
  <dc:creator>Ohishi</dc:creator>
  <dc:description/>
  <dc:language>en-US</dc:language>
  <cp:lastModifiedBy>Ohishi</cp:lastModifiedBy>
  <dcterms:modified xsi:type="dcterms:W3CDTF">2005-08-27T12:09:13Z</dcterms:modified>
  <cp:revision>48</cp:revision>
  <dc:subject/>
  <dc:title>スライド タイトルなし</dc:title>
</cp:coreProperties>
</file>