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7F6-350B-4039-AD04-7672B85C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C6F-D143-4C80-B3F8-9225349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7B6-30DE-4B0B-B562-AA048613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167-39C2-41C3-95CB-2ECE239F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28B-7C5A-4BBD-9D46-8095511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8F7-C571-4FDE-A227-E38E2EDB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FE1-48E2-4305-9E14-CE19743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2FC-95CF-4CCC-967F-19EE48D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6D9-45D1-4634-97E5-E6ED6EF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CF2-10CA-4512-A794-D14821D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AF6-C680-4FCB-A3EA-E92900C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B6A-A11A-4673-872D-E1B4FBD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DDA-AE02-4749-BAE9-23A5F3C9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11280" cy="1011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504800" cy="9712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6629400"/>
            <a:ext cx="9133560" cy="226800"/>
            <a:chOff x="0" y="6629400"/>
            <a:chExt cx="9133560" cy="226800"/>
          </a:xfrm>
        </p:grpSpPr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0" y="6629400"/>
              <a:ext cx="15170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1517040" y="6629400"/>
              <a:ext cx="152748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3044520" y="6629400"/>
              <a:ext cx="152748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7"/>
            <a:stretch/>
          </p:blipFill>
          <p:spPr>
            <a:xfrm>
              <a:off x="4572000" y="6629400"/>
              <a:ext cx="15170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6089040" y="6629400"/>
              <a:ext cx="152748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7616520" y="6629400"/>
              <a:ext cx="1517040" cy="226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3333cc"/>
                </a:solidFill>
                <a:latin typeface="Osaka"/>
              </a:rPr>
              <a:t>一生成仏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4190760"/>
            <a:ext cx="64008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ff"/>
                </a:solidFill>
                <a:latin typeface="Times New Roman"/>
              </a:rPr>
              <a:t>****</a:t>
            </a:r>
            <a:r>
              <a:rPr b="0" lang="ja-JP" sz="6000" spc="-1" strike="noStrike">
                <a:solidFill>
                  <a:srgbClr val="0000ff"/>
                </a:solidFill>
                <a:latin typeface="Times New Roman"/>
              </a:rPr>
              <a:t>地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762120"/>
            <a:ext cx="5181840" cy="158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平成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17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年八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ff"/>
                </a:solidFill>
                <a:latin typeface="Osaka"/>
              </a:rPr>
              <a:t>座談会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ff"/>
                </a:solidFill>
                <a:latin typeface="Times New Roman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76520"/>
            <a:ext cx="8458200" cy="403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建長七年  三十四歳御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在鎌倉　与富木常忍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立宗宣言後二年　⇨</a:t>
            </a:r>
            <a:r>
              <a:rPr b="1" lang="ja-JP" sz="4800" spc="-1" strike="noStrike">
                <a:solidFill>
                  <a:srgbClr val="ff6600"/>
                </a:solidFill>
                <a:latin typeface="Osaka"/>
              </a:rPr>
              <a:t>闘争</a:t>
            </a: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開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Osaka"/>
              </a:rPr>
              <a:t>我が生命</a:t>
            </a: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こそ妙法の当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弛みなき</a:t>
            </a:r>
            <a:r>
              <a:rPr b="1" lang="ja-JP" sz="4800" spc="-1" strike="noStrike">
                <a:solidFill>
                  <a:srgbClr val="ff0000"/>
                </a:solidFill>
                <a:latin typeface="Osaka"/>
              </a:rPr>
              <a:t>唱題行</a:t>
            </a: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で生命を磨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Times New Roman"/>
                <a:ea typeface="平成角ゴシック"/>
              </a:rPr>
              <a:t>磨かざる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95280"/>
            <a:ext cx="2781360" cy="8251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一念無明の迷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752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276720"/>
            <a:ext cx="2819160" cy="1351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法性真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の明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8229600" cy="152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迷い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も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悟り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も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同じ生命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の現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どうすれば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変革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できる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200400"/>
            <a:ext cx="3962520" cy="1447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悟りの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菩提・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371600"/>
            <a:ext cx="3886200" cy="1447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迷いの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煩悩・凡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65760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Osaka"/>
              </a:rPr>
              <a:t>是を磨か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447920"/>
            <a:ext cx="2361960" cy="1676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法性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明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7772400" cy="1752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迷心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も</a:t>
            </a:r>
            <a:r>
              <a:rPr b="1" lang="ja-JP" sz="4800" spc="-1" strike="noStrike">
                <a:solidFill>
                  <a:srgbClr val="0000ff"/>
                </a:solidFill>
                <a:latin typeface="Times New Roman"/>
              </a:rPr>
              <a:t>磨けば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明鏡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とな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迷い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があるから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悟り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もあ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523880"/>
            <a:ext cx="2362320" cy="16765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無明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迷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1295280"/>
            <a:ext cx="167616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00"/>
                </a:solidFill>
                <a:latin typeface="Times New Roman"/>
              </a:rPr>
              <a:t>磨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Osaka"/>
              </a:rPr>
              <a:t>何様に磨くべ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191120"/>
            <a:ext cx="800100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7c80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不断の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唱題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生命錬磨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我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も唱え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他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をも勧め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00200"/>
            <a:ext cx="2819160" cy="1828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深き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信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日夜朝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600200"/>
            <a:ext cx="4114800" cy="1828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南無妙法蓮華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唱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1676520"/>
            <a:ext cx="68580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ff"/>
                </a:solidFill>
                <a:latin typeface="Times New Roman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迷い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悟り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生命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の現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唱題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で生命を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磨き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続け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自他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ともの修行で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広布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を進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迷・魔との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闘争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に勝利の人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572000"/>
            <a:ext cx="769608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Times New Roman"/>
              </a:rPr>
              <a:t>題目</a:t>
            </a: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は幸福への智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全てを動かす</a:t>
            </a:r>
            <a:r>
              <a:rPr b="0" lang="ja-JP" sz="5400" spc="-1" strike="noStrike">
                <a:solidFill>
                  <a:srgbClr val="ff0000"/>
                </a:solidFill>
                <a:latin typeface="Times New Roman"/>
              </a:rPr>
              <a:t>唱題</a:t>
            </a: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の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6:43:46Z</dcterms:created>
  <dc:creator>Ohishi</dc:creator>
  <dc:description/>
  <dc:language>en-US</dc:language>
  <cp:lastModifiedBy>Ohishi</cp:lastModifiedBy>
  <dcterms:modified xsi:type="dcterms:W3CDTF">2005-07-28T02:26:48Z</dcterms:modified>
  <cp:revision>184</cp:revision>
  <dc:subject/>
  <dc:title>スライド タイトルなし</dc:title>
</cp:coreProperties>
</file>