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D092-D145-48CF-A72C-FAB5A484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593D-9E51-4018-80E1-21EF084D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9C18-82CE-4A2E-AC20-05DFA451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E6D4-2CC4-4C74-AC1F-88D835BC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33A6-9C09-437E-B2A2-9DF106C9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6BDE-13F8-4CAE-9996-D0999E4A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599F-0E65-4A7A-9177-4A5B6C78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BF60-B824-4DD7-8ECA-B4F4C41C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C5E3-D6F4-47BF-81EC-F1520023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1AD1-F891-4832-A6BE-04DE21FE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18DD-8D71-48C1-9583-6660C7E7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ACF8-8EBB-4FE2-B2B3-6D308AC8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EFF3-D56D-49B7-9A84-60B36FBE3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891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068880"/>
            <a:ext cx="9144000" cy="7891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533520" y="609480"/>
            <a:ext cx="907920" cy="79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66680" y="1295280"/>
            <a:ext cx="7162920" cy="4343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Osaka"/>
              </a:rPr>
              <a:t>三沢抄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528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Times New Roman"/>
              </a:rPr>
              <a:t>***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</a:rPr>
              <a:t>地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447920"/>
            <a:ext cx="518148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Osaka"/>
              </a:rPr>
              <a:t>平成</a:t>
            </a:r>
            <a:r>
              <a:rPr b="0" lang="en-US" sz="3200" spc="-1" strike="noStrike">
                <a:solidFill>
                  <a:srgbClr val="0000ff"/>
                </a:solidFill>
                <a:latin typeface="Osaka"/>
              </a:rPr>
              <a:t>17</a:t>
            </a:r>
            <a:r>
              <a:rPr b="0" lang="zh-CN" sz="3200" spc="-1" strike="noStrike">
                <a:solidFill>
                  <a:srgbClr val="0000ff"/>
                </a:solidFill>
                <a:latin typeface="Osaka"/>
              </a:rPr>
              <a:t>年七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Osaka"/>
              </a:rPr>
              <a:t>座談会御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背景と大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523880"/>
            <a:ext cx="8458200" cy="4496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Osa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Osaka"/>
              </a:rPr>
              <a:t>建治四年二月  五十七歳御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Osa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Osaka"/>
              </a:rPr>
              <a:t>於：身延　与三沢殿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Times New Roman"/>
                <a:ea typeface="平成角ゴシック"/>
              </a:rPr>
              <a:t>別名：佐前佐後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0000"/>
                </a:solidFill>
                <a:latin typeface="Times New Roman"/>
                <a:ea typeface="平成角ゴシック"/>
              </a:rPr>
              <a:t>大難にも退せぬ心</a:t>
            </a:r>
            <a:r>
              <a:rPr b="1" lang="ja-JP" sz="4400" spc="-1" strike="noStrike">
                <a:solidFill>
                  <a:srgbClr val="000000"/>
                </a:solidFill>
                <a:latin typeface="Times New Roman"/>
                <a:ea typeface="平成角ゴシック"/>
              </a:rPr>
              <a:t>で闘い抜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佐渡以後に真実の　　　　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Times New Roman"/>
              </a:rPr>
              <a:t>　　　　　　　　　大法を明か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平成角ゴシック"/>
              </a:rPr>
              <a:t>太陽の仏法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4419720"/>
            <a:ext cx="7391520" cy="16002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53009" dir="249398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大聖人の法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が顕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他の思想・宗教は力を失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1905120"/>
            <a:ext cx="5639040" cy="1447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3009" dir="249398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正法・像法の法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論師人師の法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1371600"/>
            <a:ext cx="5943600" cy="2895480"/>
          </a:xfrm>
          <a:custGeom>
            <a:avLst/>
            <a:gdLst>
              <a:gd name="textAreaLeft" fmla="*/ 1356840 w 5943600"/>
              <a:gd name="textAreaRight" fmla="*/ 4586760 w 5943600"/>
              <a:gd name="textAreaTop" fmla="*/ 660960 h 2895480"/>
              <a:gd name="textAreaBottom" fmla="*/ 223452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三大秘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南無妙法蓮華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Osaka"/>
              </a:rPr>
              <a:t>一閻浮提に流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620120" cy="15238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末法は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無明の闇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の時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正法像法の法門では力は無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352680"/>
            <a:ext cx="380988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大聖人は大難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勝ち越える人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3733920"/>
            <a:ext cx="685800" cy="685800"/>
          </a:xfrm>
          <a:custGeom>
            <a:avLst/>
            <a:gdLst>
              <a:gd name="textAreaLeft" fmla="*/ 85680 w 685800"/>
              <a:gd name="textAreaRight" fmla="*/ 600120 w 6858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10080" y="3352680"/>
            <a:ext cx="3124440" cy="16002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Times New Roman"/>
              </a:rPr>
              <a:t>偉大な功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の証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5105520"/>
            <a:ext cx="7391520" cy="838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仏法は必ず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全世界に流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75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75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75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Osaka"/>
              </a:rPr>
              <a:t>法門にちぎり有る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4114800"/>
            <a:ext cx="35812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7c80"/>
              </a:gs>
              <a:gs pos="100000">
                <a:srgbClr val="ccc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43570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広布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の陣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広布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に生き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21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4499"/>
              </a:lnSpc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Times New Roman"/>
                <a:ea typeface="平成角ゴシック"/>
              </a:rPr>
              <a:t>仏法に縁した</a:t>
            </a:r>
            <a:r>
              <a:rPr b="1" lang="ja-JP" sz="4400" spc="-1" strike="noStrike">
                <a:solidFill>
                  <a:srgbClr val="ff0000"/>
                </a:solidFill>
                <a:latin typeface="Times New Roman"/>
                <a:ea typeface="平成角ゴシック"/>
              </a:rPr>
              <a:t>深き宿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4499"/>
              </a:lnSpc>
              <a:spcBef>
                <a:spcPts val="11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0000"/>
                </a:solidFill>
                <a:latin typeface="Times New Roman"/>
                <a:ea typeface="平成角ゴシック"/>
              </a:rPr>
              <a:t>地涌の誓い</a:t>
            </a:r>
            <a:r>
              <a:rPr b="1" lang="ja-JP" sz="4400" spc="-1" strike="noStrike">
                <a:solidFill>
                  <a:srgbClr val="000000"/>
                </a:solidFill>
                <a:latin typeface="Times New Roman"/>
                <a:ea typeface="平成角ゴシック"/>
              </a:rPr>
              <a:t>こそ我が使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4499"/>
              </a:lnSpc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Times New Roman"/>
                <a:ea typeface="平成角ゴシック"/>
              </a:rPr>
              <a:t>行動の原点は</a:t>
            </a:r>
            <a:r>
              <a:rPr b="1" lang="ja-JP" sz="4400" spc="-1" strike="noStrike">
                <a:solidFill>
                  <a:srgbClr val="ff0000"/>
                </a:solidFill>
                <a:latin typeface="Times New Roman"/>
                <a:ea typeface="平成角ゴシック"/>
              </a:rPr>
              <a:t>師弟のちぎ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4038480"/>
            <a:ext cx="3352680" cy="16002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功徳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の人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成仏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の軌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4495680"/>
            <a:ext cx="685800" cy="914400"/>
          </a:xfrm>
          <a:custGeom>
            <a:avLst/>
            <a:gdLst>
              <a:gd name="textAreaLeft" fmla="*/ 106920 w 685800"/>
              <a:gd name="textAreaRight" fmla="*/ 600120 w 6858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まと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236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南無妙法蓮華経は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太陽の仏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世界広宣流布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は必ず実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地涌の使命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で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師弟共戦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に勝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4267080"/>
            <a:ext cx="7925040" cy="18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地域・社会・人生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勝利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の旗・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希望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の光りを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6:43:46Z</dcterms:created>
  <dc:creator>Ohishi</dc:creator>
  <dc:description/>
  <dc:language>en-US</dc:language>
  <cp:lastModifiedBy>student</cp:lastModifiedBy>
  <dcterms:modified xsi:type="dcterms:W3CDTF">2005-06-26T23:21:31Z</dcterms:modified>
  <cp:revision>170</cp:revision>
  <dc:subject/>
  <dc:title>スライド タイトルなし</dc:title>
</cp:coreProperties>
</file>