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967-6D56-4A74-8EBC-3DC39D86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9BB-BF6E-420D-8D86-C17EAEA1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EDD-575B-47DB-9A0E-2FA42DB0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606-8D24-4480-B7BA-24AEF334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FBEB-81FD-4DA2-965C-26D2C740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8DBA-AB97-49AB-9720-60636E5E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9310-E73A-4CAC-95FE-029D5B3E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6F74-F620-4D45-9C59-D291471D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4D35-C8E3-4F33-BB9A-57E4C292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5C8A-0299-4C8F-A4AC-C70EA393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03CE-4C41-464A-9441-E87E2B3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99B-1C83-4812-BC63-BC519461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A950-D949-4B4C-8EB5-7A7AB2B2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8FA2-F254-4FF5-ADC0-C7B01A4C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63D-D51D-4A64-877A-15110BF5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5A98-AD29-4545-9A12-EF4351F3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AF8-AB0E-4B4A-A3D3-00258575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852-DE36-493E-9B4C-EA2BD126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335-B8C9-4328-A7B6-0874A85B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F7A-3ECF-497B-9BD8-37466A6A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4F3-16F6-4C04-B8F0-1E708202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B63-31A8-4EE2-9F80-86C9F651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4D2-62B6-43EF-AAAD-F14210A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C42-9FE8-4CE0-88AF-0C43ECA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09B4-95B3-4E0A-AD90-D849E637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90828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2B38-F498-4A19-8126-A36A6A4A3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6699ff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2301cb"/>
                </a:solidFill>
                <a:latin typeface="Osaka"/>
              </a:rPr>
              <a:t>四条金吾殿御返事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ff"/>
                </a:solidFill>
                <a:latin typeface="Times New Roman"/>
              </a:rPr>
              <a:t>***</a:t>
            </a:r>
            <a:r>
              <a:rPr b="0" lang="ja-JP" sz="6000" spc="-1" strike="noStrike">
                <a:solidFill>
                  <a:srgbClr val="0000ff"/>
                </a:solidFill>
                <a:latin typeface="Times New Roman"/>
              </a:rPr>
              <a:t>地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762120"/>
            <a:ext cx="5181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平成</a:t>
            </a: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17</a:t>
            </a: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年六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ff"/>
                </a:solidFill>
                <a:latin typeface="Osaka"/>
              </a:rPr>
              <a:t>座談会御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90792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ff"/>
                </a:solidFill>
                <a:latin typeface="Arial"/>
              </a:rPr>
              <a:t>背景と大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弘安二年十月  五十八歳御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与四条金吾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同僚の嫉妬・敵の襲撃に会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2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「</a:t>
            </a:r>
            <a:r>
              <a:rPr b="1" lang="ja-JP" sz="42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法華経の行者</a:t>
            </a:r>
            <a:r>
              <a:rPr b="1" lang="ja-JP" sz="42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」は諸天が守護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法華経の兵法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こそ最高の兵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勇気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の信心で闘い抜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Arial"/>
                <a:ea typeface="平成角ゴシック"/>
              </a:rPr>
              <a:t>法華経の兵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371600"/>
            <a:ext cx="2781360" cy="1409760"/>
          </a:xfrm>
          <a:prstGeom prst="rect">
            <a:avLst/>
          </a:prstGeom>
          <a:noFill/>
          <a:ln w="9360">
            <a:solidFill>
              <a:srgbClr val="23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世間の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兵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6765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048120"/>
            <a:ext cx="2133360" cy="135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法華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の兵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327672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800600"/>
            <a:ext cx="8229600" cy="1600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cc0000"/>
                </a:solidFill>
                <a:latin typeface="Times New Roman"/>
              </a:rPr>
              <a:t>一切の敵を打ち破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cc0000"/>
                </a:solidFill>
                <a:latin typeface="Times New Roman"/>
              </a:rPr>
              <a:t>無限の力・勇気・生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048120"/>
            <a:ext cx="4343400" cy="1447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妙法の智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行き詰まりな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371600"/>
            <a:ext cx="4191120" cy="144792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53009" dir="24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行き詰ま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限界・不可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Osaka"/>
              </a:rPr>
              <a:t>諸余怨敵皆悉摧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371600"/>
            <a:ext cx="7619760" cy="228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人間社会は闘争の舞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勝ち抜いて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こそ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正義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の証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絶対勝利の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法華経の兵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495680"/>
            <a:ext cx="213372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00"/>
                </a:solidFill>
                <a:latin typeface="Times New Roman"/>
              </a:rPr>
              <a:t>諸余怨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00"/>
                </a:solidFill>
                <a:latin typeface="Times New Roman"/>
              </a:rPr>
              <a:t>皆悉摧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876920"/>
            <a:ext cx="685800" cy="685800"/>
          </a:xfrm>
          <a:custGeom>
            <a:avLst/>
            <a:gdLst>
              <a:gd name="textAreaLeft" fmla="*/ 85680 w 685800"/>
              <a:gd name="textAreaRight" fmla="*/ 600120 w 6858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4419720"/>
            <a:ext cx="5410440" cy="1828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5050"/>
                </a:solidFill>
                <a:latin typeface="Times New Roman"/>
              </a:rPr>
              <a:t>一切の敵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を全て打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破ることができ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657600"/>
            <a:ext cx="32004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薬王品の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ff"/>
                </a:solidFill>
                <a:latin typeface="Osaka"/>
              </a:rPr>
              <a:t>臆病にては叶うべから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505320"/>
            <a:ext cx="7619760" cy="289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7c80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「強情な祈り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「最高の作戦・行動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この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二つの調和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が勝利の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信心により可能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とな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64767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信心とは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勇気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の異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666880"/>
            <a:ext cx="478008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小説・人間革命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ff"/>
                </a:solidFill>
                <a:latin typeface="Arial"/>
              </a:rPr>
              <a:t>まと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絶対勝利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の最高法は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仏法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法華経の兵法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に不可能はな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妙法の</a:t>
            </a: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智慧と勇気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で大勝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臆病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は敗北の因と知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572000"/>
            <a:ext cx="792504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「執念の祈り」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「壁を破る闘い」に挑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6:43:46Z</dcterms:created>
  <dc:creator>Ohishi</dc:creator>
  <dc:description/>
  <dc:language>en-US</dc:language>
  <cp:lastModifiedBy>Ohishi</cp:lastModifiedBy>
  <dcterms:modified xsi:type="dcterms:W3CDTF">2005-05-26T12:32:24Z</dcterms:modified>
  <cp:revision>149</cp:revision>
  <dc:subject/>
  <dc:title>スライド タイトルなし</dc:title>
</cp:coreProperties>
</file>