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653-CBC3-44CC-AAE3-2FF45A86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D8B-B881-457A-9386-D1DBB13D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8FB-BC5C-46B2-9780-F120CB08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219-812A-4158-8DA7-92259493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3E2F-8014-459B-A5A6-2E2D4FAB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7DAF-6259-4850-A69A-23677243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47C3-01FB-4584-BE9A-FFFBB4DC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14FC-600D-4659-8888-0B63B5A5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53D0-5B5D-4EE4-A174-EAF0C948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34A3-D065-465C-A5D1-53164B2B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8C79-0F63-4855-B07E-058803CD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7A1-AB14-4EA9-B0E0-71523041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53B8-3A4B-42F9-B601-C9D47124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9173-710D-48AD-B9BB-FF4EED0C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8DBB-6D0A-4FCE-B67D-1D0933DB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3C50-F3A6-4F39-A912-DA3269CB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DCAC-D6FD-4226-8F29-4B4B7975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42F-056A-4BCE-A490-95FC2AE3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358-5DF2-4FD5-A302-D1DA89DA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8CB-446A-4CB7-8E49-B582A03C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1CB-138C-479C-B1A8-CD7CBF55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EE9-4A71-48D3-8FF4-64D07E27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F74-9F58-4C9B-AE40-04B6BFEE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313-0AD5-49F0-A794-2890B875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8575-2C89-4671-BE00-14F993AA9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90828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58EE-2589-4AD0-AFDB-59011E59A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6699ff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Osaka"/>
              </a:rPr>
              <a:t>異体同心事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****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支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762120"/>
            <a:ext cx="5181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Osaka"/>
              </a:rPr>
              <a:t>平成</a:t>
            </a:r>
            <a:r>
              <a:rPr b="0" lang="ja-JP" sz="3200" spc="-1" strike="noStrike">
                <a:solidFill>
                  <a:srgbClr val="0000ff"/>
                </a:solidFill>
                <a:latin typeface="Osaka"/>
              </a:rPr>
              <a:t>17</a:t>
            </a:r>
            <a:r>
              <a:rPr b="0" lang="ja-JP" sz="3200" spc="-1" strike="noStrike">
                <a:solidFill>
                  <a:srgbClr val="0000ff"/>
                </a:solidFill>
                <a:latin typeface="Osaka"/>
              </a:rPr>
              <a:t>年五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ff"/>
                </a:solidFill>
                <a:latin typeface="Osaka"/>
              </a:rPr>
              <a:t>座談会御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90792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背景と大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295280"/>
            <a:ext cx="8147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建治元年九月  五十四歳御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与高橋六郎入道　駿河の弟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熱原の弘教が進み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　　　滝泉寺が弾圧を始める　　　　　　　　　　　　　　　　　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「</a:t>
            </a:r>
            <a:r>
              <a:rPr b="1" lang="zh-CN" sz="4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異体同心</a:t>
            </a:r>
            <a:r>
              <a:rPr b="1" lang="zh-CN" sz="4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」の信心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　　　広宣流布の実現へ</a:t>
            </a:r>
            <a:r>
              <a:rPr b="1" lang="zh-CN" sz="4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勝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平成角ゴシック"/>
              </a:rPr>
              <a:t>異体同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61360" y="1523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異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16002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1523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異なった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5146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同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5146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同じ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5146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体は異なっても、心は同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648320"/>
            <a:ext cx="8229600" cy="1600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cc0000"/>
                </a:solidFill>
                <a:latin typeface="Times New Roman"/>
              </a:rPr>
              <a:t>目的・目標が団結の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cc0000"/>
                </a:solidFill>
                <a:latin typeface="Times New Roman"/>
              </a:rPr>
              <a:t>異体同心の団結こそ勝利の要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平成角ゴシック"/>
              </a:rPr>
              <a:t>異体と同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447920"/>
            <a:ext cx="6858000" cy="129528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　：一人、一国、一集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　：心がバラバ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124080"/>
            <a:ext cx="8077320" cy="1295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異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立場、職業、特質、など異な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同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目的意識が同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724280"/>
            <a:ext cx="1219320" cy="762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異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800600"/>
            <a:ext cx="685800" cy="685800"/>
          </a:xfrm>
          <a:custGeom>
            <a:avLst/>
            <a:gdLst>
              <a:gd name="textAreaLeft" fmla="*/ 85680 w 685800"/>
              <a:gd name="textAreaRight" fmla="*/ 600120 w 6858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4800600"/>
            <a:ext cx="4495680" cy="762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個性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人間性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の尊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7913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同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5791320"/>
            <a:ext cx="685800" cy="685800"/>
          </a:xfrm>
          <a:custGeom>
            <a:avLst/>
            <a:gdLst>
              <a:gd name="textAreaLeft" fmla="*/ 85680 w 685800"/>
              <a:gd name="textAreaRight" fmla="*/ 600120 w 6858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5867280"/>
            <a:ext cx="4343400" cy="762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広宣流布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の信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49640" y="13971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同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異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75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75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75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75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Osaka"/>
              </a:rPr>
              <a:t>悪は一善にかつ事な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257800"/>
            <a:ext cx="761976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66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異体同心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の団結で断じて</a:t>
            </a: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勝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一善とは</a:t>
            </a:r>
            <a:r>
              <a:rPr b="1" lang="zh-CN" sz="4800" spc="-1" strike="noStrike">
                <a:solidFill>
                  <a:srgbClr val="2301cb"/>
                </a:solidFill>
                <a:latin typeface="Times New Roman"/>
                <a:ea typeface="平成角ゴシック"/>
              </a:rPr>
              <a:t>大聖人の一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Times New Roman"/>
                <a:ea typeface="平成角ゴシック"/>
              </a:rPr>
              <a:t>広宣流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こそ究極の</a:t>
            </a:r>
            <a:r>
              <a:rPr b="1" lang="zh-CN" sz="4800" spc="-1" strike="noStrike">
                <a:solidFill>
                  <a:srgbClr val="cc99ff"/>
                </a:solidFill>
                <a:latin typeface="Times New Roman"/>
                <a:ea typeface="平成角ゴシック"/>
              </a:rPr>
              <a:t>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352680"/>
            <a:ext cx="3124440" cy="13716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00"/>
                </a:solidFill>
                <a:latin typeface="Times New Roman"/>
              </a:rPr>
              <a:t>悪との徹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00"/>
                </a:solidFill>
                <a:latin typeface="Times New Roman"/>
              </a:rPr>
              <a:t>した戦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3505320"/>
            <a:ext cx="1066680" cy="1066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3352680"/>
            <a:ext cx="2590920" cy="160020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Times New Roman"/>
              </a:rPr>
              <a:t>勝利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こ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00"/>
                </a:solidFill>
                <a:latin typeface="Times New Roman"/>
              </a:rPr>
              <a:t>善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の証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まと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異体同心とは</a:t>
            </a:r>
            <a:r>
              <a:rPr b="1" lang="ja-JP" sz="4800" spc="-1" strike="noStrike">
                <a:solidFill>
                  <a:srgbClr val="ff5757"/>
                </a:solidFill>
                <a:latin typeface="Times New Roman"/>
              </a:rPr>
              <a:t>信心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の団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5757"/>
                </a:solidFill>
                <a:latin typeface="Times New Roman"/>
              </a:rPr>
              <a:t>広宣流布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を目指す心が根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各々の</a:t>
            </a:r>
            <a:r>
              <a:rPr b="1" lang="ja-JP" sz="4800" spc="-1" strike="noStrike">
                <a:solidFill>
                  <a:srgbClr val="ff5757"/>
                </a:solidFill>
                <a:latin typeface="Times New Roman"/>
              </a:rPr>
              <a:t>使命</a:t>
            </a: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を生かして</a:t>
            </a:r>
            <a:r>
              <a:rPr b="1" lang="ja-JP" sz="4800" spc="-1" strike="noStrike">
                <a:solidFill>
                  <a:srgbClr val="ff5757"/>
                </a:solidFill>
                <a:latin typeface="Times New Roman"/>
              </a:rPr>
              <a:t>団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2301c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悪に勝つて</a:t>
            </a:r>
            <a:r>
              <a:rPr b="1" lang="ja-JP" sz="4800" spc="-1" strike="noStrike">
                <a:solidFill>
                  <a:srgbClr val="ff5757"/>
                </a:solidFill>
                <a:latin typeface="Times New Roman"/>
              </a:rPr>
              <a:t>善の証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572000"/>
            <a:ext cx="792504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「異体同心の戦い」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「全てに勝利」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6:43:46Z</dcterms:created>
  <dc:creator>Ohishi</dc:creator>
  <dc:description/>
  <dc:language>en-US</dc:language>
  <cp:lastModifiedBy>student</cp:lastModifiedBy>
  <dcterms:modified xsi:type="dcterms:W3CDTF">2005-04-27T23:19:31Z</dcterms:modified>
  <cp:revision>129</cp:revision>
  <dc:subject/>
  <dc:title>スライド タイトルなし</dc:title>
</cp:coreProperties>
</file>