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F41-58F4-4134-BE29-63D61661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81E-00C8-41BF-BADF-7E3F03ED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9EB-873E-4EE7-AC99-0FA8BB9F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564-9B19-44F4-8FD8-79A3FC02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15B-B3B1-469B-A695-9F0884A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9A0-5DFB-4AC2-A153-7EAC10D5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D48-2BE6-4CCA-9848-932B5E3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32B-B695-4BCC-8713-D6CEB83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191-B9BE-49E2-807E-539FDA0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AC3-9A52-470C-8622-9267A4C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FE1-0F20-428E-BB8E-77A2016C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F10-3F3C-4DCA-9F8A-3F59C71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1D62-3F22-4896-9AB7-FAC1FCF8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90792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Osaka"/>
              </a:rPr>
              <a:t>崇峻天皇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＊＊地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762120"/>
            <a:ext cx="5181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Osaka"/>
              </a:rPr>
              <a:t>平成</a:t>
            </a:r>
            <a:r>
              <a:rPr b="0" lang="en-US" sz="3200" spc="-1" strike="noStrike">
                <a:solidFill>
                  <a:srgbClr val="0000ff"/>
                </a:solidFill>
                <a:latin typeface="Osaka"/>
              </a:rPr>
              <a:t>17</a:t>
            </a:r>
            <a:r>
              <a:rPr b="0" lang="zh-CN" sz="3200" spc="-1" strike="noStrike">
                <a:solidFill>
                  <a:srgbClr val="0000ff"/>
                </a:solidFill>
                <a:latin typeface="Osaka"/>
              </a:rPr>
              <a:t>年四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Osaka"/>
              </a:rPr>
              <a:t>座談会御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背景と大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600200"/>
            <a:ext cx="79246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Osaka"/>
              </a:rPr>
              <a:t>建治三年九月 </a:t>
            </a:r>
            <a:r>
              <a:rPr b="1" lang="zh-CN" sz="4800" spc="-1" strike="noStrike">
                <a:solidFill>
                  <a:srgbClr val="000000"/>
                </a:solidFill>
                <a:latin typeface="Osaka"/>
              </a:rPr>
              <a:t>五十六歳御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0000"/>
              <a:buFont typeface="Osak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Osaka"/>
              </a:rPr>
              <a:t>三種財宝御書</a:t>
            </a:r>
            <a:r>
              <a:rPr b="1" lang="zh-CN" sz="4800" spc="-1" strike="noStrike">
                <a:solidFill>
                  <a:srgbClr val="000000"/>
                </a:solidFill>
                <a:latin typeface="Osaka"/>
              </a:rPr>
              <a:t>　与四条金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江間氏より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退転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を迫られ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江間氏の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治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により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打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仏法の究極は人の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振る舞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Osaka"/>
              </a:rPr>
              <a:t>世間の心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495680"/>
            <a:ext cx="8229600" cy="167652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勇気の信心で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社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に実証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勝利の人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こそ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正義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の証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447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主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た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仏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た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371600"/>
            <a:ext cx="3352680" cy="152388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社会で実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正義を証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429000"/>
            <a:ext cx="838224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Osaka"/>
              </a:rPr>
              <a:t>御みやづかい</a:t>
            </a:r>
            <a:r>
              <a:rPr b="0" lang="zh-CN" sz="4000" spc="-1" strike="noStrike">
                <a:solidFill>
                  <a:srgbClr val="000000"/>
                </a:solidFill>
                <a:latin typeface="Osaka"/>
              </a:rPr>
              <a:t>を法華経とをぼしめ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1828800"/>
            <a:ext cx="1066680" cy="8380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24280" y="1523880"/>
            <a:ext cx="4191120" cy="2895840"/>
          </a:xfrm>
          <a:prstGeom prst="roundRect">
            <a:avLst>
              <a:gd name="adj" fmla="val 112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お金で得られ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い難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523880"/>
            <a:ext cx="4191120" cy="2895840"/>
          </a:xfrm>
          <a:prstGeom prst="roundRect">
            <a:avLst>
              <a:gd name="adj" fmla="val 112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お金で得られ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い易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Osaka"/>
              </a:rPr>
              <a:t>蔵の財よりも身の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4648320"/>
            <a:ext cx="8001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66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4357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財産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や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地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は失えば空し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健康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や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才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は一生の財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3962520" cy="13716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蔵の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財産・地位・名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600200"/>
            <a:ext cx="3962520" cy="14479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身の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才能・学識・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1523880"/>
            <a:ext cx="7162920" cy="2819520"/>
          </a:xfrm>
          <a:prstGeom prst="roundRect">
            <a:avLst>
              <a:gd name="adj" fmla="val 137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信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によってのみ得られ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三世永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にわたり壊され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Osaka"/>
              </a:rPr>
              <a:t>身の財より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Osaka"/>
              </a:rPr>
              <a:t>心の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72000"/>
            <a:ext cx="830592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広布に生き、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心の財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をつも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仏の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智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輝く人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を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600200"/>
            <a:ext cx="655308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心の財　　　　</a:t>
            </a: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人間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生命力・智慧・最高の境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まと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社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創価正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実証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財産・地位より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心の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信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生命力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智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を湧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419720"/>
            <a:ext cx="7925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師と共に広布の道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学会活動で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心の財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を貯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6:43:46Z</dcterms:created>
  <dc:creator>Ohishi</dc:creator>
  <dc:description/>
  <dc:language>en-US</dc:language>
  <cp:lastModifiedBy>student</cp:lastModifiedBy>
  <dcterms:modified xsi:type="dcterms:W3CDTF">2005-03-23T00:10:11Z</dcterms:modified>
  <cp:revision>137</cp:revision>
  <dc:subject/>
  <dc:title>スライド タイトルなし</dc:title>
</cp:coreProperties>
</file>