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B34-924A-453A-A3F9-C4564E31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2E5-8B55-4CAD-8ADD-59149E65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B0C-69C3-4A16-8ED6-5F042CBE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E7D-3848-4660-B3CA-FDEFEAC8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D2C-9B0F-4765-A4B9-CA8A19C2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F82-D64F-4ABF-ACB6-AF5BE6C0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5E3-F8E1-4D79-9EE0-F58B9E30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E54-131F-4924-BFA3-9B099FB3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679-5B0B-4AF6-936D-784A800B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8AD-33C2-41FB-BFA8-9C034BE4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926-CD9E-4BBD-85CE-0182FC51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944-F958-4BC8-9E29-9D147CD2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5960-3F25-409E-94A8-A37F6558D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1143000"/>
            <a:ext cx="6858000" cy="457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120" y="2666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兄 弟 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＊＊地区・座談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1295280"/>
            <a:ext cx="647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二月度座談会御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背景と大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対告衆：池上宗仲・宗長（池上兄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・康光は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念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を強信、良観を信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父が兄・宗仲を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勘当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弟も動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難を乗り越える信心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」をご教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三障四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との闘いで本物の信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その後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父の入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を勝ち取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必ず魔出来すべ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魔とは、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奪命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正義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の戦いに、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魔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が競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魔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が競うのは正しさの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証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952880"/>
            <a:ext cx="670536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競い来る魔を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乗り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え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魔に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ってこそ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正義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の証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371600"/>
            <a:ext cx="3124080" cy="1752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信行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の実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行解既に勤め・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32767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信行学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折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の実践で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障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が競い起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修行と理解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進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ほど、障魔は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強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5238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修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と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905120"/>
            <a:ext cx="838440" cy="761760"/>
          </a:xfrm>
          <a:prstGeom prst="leftArrow">
            <a:avLst>
              <a:gd name="adj1" fmla="val 50000"/>
              <a:gd name="adj2" fmla="val 2751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523880"/>
            <a:ext cx="2743200" cy="1752840"/>
          </a:xfrm>
          <a:prstGeom prst="cloudCallout">
            <a:avLst>
              <a:gd name="adj1" fmla="val -35935"/>
              <a:gd name="adj2" fmla="val 4347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三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四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800600"/>
            <a:ext cx="6934320" cy="1295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紛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と：まぎらわし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　　いつの間にか忍び寄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三障四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724280"/>
            <a:ext cx="662940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第六天の魔王・他化自在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或は</a:t>
            </a:r>
            <a:r>
              <a:rPr b="0" lang="ja-JP" sz="4000" spc="-1" strike="noStrike">
                <a:solidFill>
                  <a:srgbClr val="ff0000"/>
                </a:solidFill>
                <a:latin typeface="Times New Roman"/>
              </a:rPr>
              <a:t>随つて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、或は</a:t>
            </a:r>
            <a:r>
              <a:rPr b="0" lang="ja-JP" sz="4000" spc="-1" strike="noStrike">
                <a:solidFill>
                  <a:srgbClr val="ff0000"/>
                </a:solidFill>
                <a:latin typeface="Times New Roman"/>
              </a:rPr>
              <a:t>違し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1676520"/>
            <a:ext cx="5943600" cy="990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三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信心修行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の妨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1981080"/>
            <a:ext cx="1676520" cy="1295640"/>
          </a:xfrm>
          <a:custGeom>
            <a:avLst/>
            <a:gdLst>
              <a:gd name="textAreaLeft" fmla="*/ 382680 w 1676520"/>
              <a:gd name="textAreaRight" fmla="*/ 1293840 w 16765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50000">
                <a:srgbClr val="ffcc00"/>
              </a:gs>
              <a:gs pos="100000">
                <a:srgbClr val="3333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報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1066680"/>
            <a:ext cx="1752480" cy="1524240"/>
          </a:xfrm>
          <a:prstGeom prst="irregularSeal1">
            <a:avLst/>
          </a:prstGeom>
          <a:gradFill rotWithShape="0">
            <a:gsLst>
              <a:gs pos="0">
                <a:srgbClr val="752424"/>
              </a:gs>
              <a:gs pos="50000">
                <a:srgbClr val="ff5050"/>
              </a:gs>
              <a:gs pos="100000">
                <a:srgbClr val="75242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143000"/>
            <a:ext cx="1676520" cy="1447920"/>
          </a:xfrm>
          <a:prstGeom prst="cloudCallout">
            <a:avLst>
              <a:gd name="adj1" fmla="val -21305"/>
              <a:gd name="adj2" fmla="val 314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煩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352680"/>
            <a:ext cx="7772400" cy="83844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四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生命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の狂い迷い　奪命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819520"/>
            <a:ext cx="1981440" cy="1143000"/>
          </a:xfrm>
          <a:custGeom>
            <a:avLst/>
            <a:gdLst>
              <a:gd name="textAreaLeft" fmla="*/ 452160 w 1981440"/>
              <a:gd name="textAreaRight" fmla="*/ 1529280 w 198144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煩悩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581280"/>
            <a:ext cx="1295280" cy="990720"/>
          </a:xfrm>
          <a:custGeom>
            <a:avLst/>
            <a:gdLst>
              <a:gd name="textAreaLeft" fmla="*/ 0 w 1295280"/>
              <a:gd name="textAreaRight" fmla="*/ 1295640 w 1295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ffff00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陰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3048120"/>
            <a:ext cx="1676160" cy="1143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ff5050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死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3276720"/>
            <a:ext cx="1752480" cy="1447560"/>
          </a:xfrm>
          <a:prstGeom prst="leftRightArrow">
            <a:avLst>
              <a:gd name="adj1" fmla="val 59213"/>
              <a:gd name="adj2" fmla="val 24101"/>
            </a:avLst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天子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ff"/>
                </a:solidFill>
                <a:latin typeface="Times New Roman"/>
              </a:rPr>
              <a:t>随う可ら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魔を魔と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見破り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魔と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闘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魔を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恐れるな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必ず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勝利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す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大難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こそ正法実践の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証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419720"/>
            <a:ext cx="723924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に従えば、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悪道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に落ち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を恐れれば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臆病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にな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門家の明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大聖人はこの経文を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身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ら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弟子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この文を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身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弟子として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信心の鏡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とせ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4495680"/>
            <a:ext cx="6629400" cy="152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この経文を心に染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勇気で前進・大勝利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まと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88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正法修行に魔は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必ず起き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障四魔は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密かに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忍び寄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魔を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見破り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闘い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撃ち破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勝利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こそ正義の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証明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とな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難を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恐れ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難を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乗り越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75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75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75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75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5:15:35Z</dcterms:created>
  <dc:creator>Ohishi</dc:creator>
  <dc:description/>
  <dc:language>en-US</dc:language>
  <cp:lastModifiedBy>student</cp:lastModifiedBy>
  <dcterms:modified xsi:type="dcterms:W3CDTF">2005-01-24T02:24:56Z</dcterms:modified>
  <cp:revision>64</cp:revision>
  <dc:subject/>
  <dc:title>スライド タイトルなし</dc:title>
</cp:coreProperties>
</file>