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6D8-0C23-4CC3-963F-8DCD589F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07B-5F89-4AAC-BCF9-79AB5E2C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081-2DF5-403D-9D83-2566C026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B42-BA4F-469D-813D-31FB11EE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F5C-1649-454F-9BE3-D9E77AC9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992-999C-49FD-B2D2-EE1E5A81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BA4-437D-40E5-8D77-67873F6D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52D-AC24-477E-BA3C-BF464FD1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D30-C2AA-40D5-95AB-98A457AC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49E-683A-46DB-89AB-CF5C6834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540-EFAD-4346-88A9-C6B628E9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9FD-BE51-4FD1-9027-2E9115A4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4B89-8F6A-4A37-9D3A-3B59CEAC4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2920" y="304920"/>
            <a:ext cx="907920" cy="798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906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-3310920" y="-143280"/>
            <a:ext cx="13217040" cy="70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2727"/>
          </a:solidFill>
          <a:ln w="9360">
            <a:solidFill>
              <a:srgbClr val="ff2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-3815280" y="-501480"/>
            <a:ext cx="13216320" cy="700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4461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44618"/>
              </a:path>
            </a:pathLst>
          </a:cu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-4320720" y="-904680"/>
            <a:ext cx="13217040" cy="700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4461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44618"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-4825440" y="-1307880"/>
            <a:ext cx="13217040" cy="700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4461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44618"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990720"/>
            <a:ext cx="7696440" cy="4952880"/>
          </a:xfrm>
          <a:prstGeom prst="roundRect">
            <a:avLst>
              <a:gd name="adj" fmla="val 676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39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月度座談会御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66688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妙密上人御消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4495680"/>
            <a:ext cx="676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＊＊地区・座談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219320"/>
            <a:ext cx="8991720" cy="4495680"/>
          </a:xfrm>
          <a:prstGeom prst="roundRect">
            <a:avLst>
              <a:gd name="adj" fmla="val 724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4357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平成角ゴシック"/>
              </a:rPr>
              <a:t>背景と大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建治２年三月　与妙密上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別名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法華経功徳抄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広布は大聖人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お一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から始まっ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日本国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一同への流布は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必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全世界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への広宣流布を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平成角ゴシック"/>
              </a:rPr>
              <a:t>確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但一人・唱えた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991720" cy="335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国中が</a:t>
            </a:r>
            <a:r>
              <a:rPr b="0" lang="ja-JP" sz="4400" spc="-1" strike="noStrike">
                <a:solidFill>
                  <a:srgbClr val="000000"/>
                </a:solidFill>
                <a:latin typeface="Osaka−等幅"/>
                <a:ea typeface="平成角ゴシック"/>
              </a:rPr>
              <a:t>弥陀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・</a:t>
            </a:r>
            <a:r>
              <a:rPr b="0" lang="ja-JP" sz="4400" spc="-1" strike="noStrike">
                <a:solidFill>
                  <a:srgbClr val="000000"/>
                </a:solidFill>
                <a:latin typeface="Osaka−等幅"/>
                <a:ea typeface="平成角ゴシック"/>
              </a:rPr>
              <a:t>観音・大日を唱え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1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大聖人が初めて</a:t>
            </a:r>
            <a:r>
              <a:rPr b="0" lang="ja-JP" sz="4100" spc="-1" strike="noStrike">
                <a:solidFill>
                  <a:srgbClr val="ff2727"/>
                </a:solidFill>
                <a:latin typeface="Times New Roman"/>
                <a:ea typeface="平成角ゴシック"/>
              </a:rPr>
              <a:t>肝心の題目</a:t>
            </a:r>
            <a:r>
              <a:rPr b="0" lang="ja-JP" sz="41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を唱える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我れこそ</a:t>
            </a:r>
            <a:r>
              <a:rPr b="0" lang="ja-JP" sz="4400" spc="-1" strike="noStrike">
                <a:solidFill>
                  <a:srgbClr val="ff2727"/>
                </a:solidFill>
                <a:latin typeface="Times New Roman"/>
                <a:ea typeface="平成角ゴシック"/>
              </a:rPr>
              <a:t>法華経の行者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との確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我れこそ</a:t>
            </a:r>
            <a:r>
              <a:rPr b="0" lang="ja-JP" sz="4400" spc="-1" strike="noStrike">
                <a:solidFill>
                  <a:srgbClr val="ff2727"/>
                </a:solidFill>
                <a:latin typeface="Times New Roman"/>
                <a:ea typeface="平成角ゴシック"/>
              </a:rPr>
              <a:t>末法の仏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平成角ゴシック"/>
              </a:rPr>
              <a:t>なりとの確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5257800"/>
            <a:ext cx="9296640" cy="762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4357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末法の</a:t>
            </a:r>
            <a:r>
              <a:rPr b="0" lang="zh-CN" sz="4000" spc="-1" strike="noStrike">
                <a:solidFill>
                  <a:srgbClr val="ff2727"/>
                </a:solidFill>
                <a:latin typeface="Times New Roman"/>
              </a:rPr>
              <a:t>法華経の行者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zh-CN" sz="4000" spc="-1" strike="noStrike">
                <a:solidFill>
                  <a:srgbClr val="ff2727"/>
                </a:solidFill>
                <a:latin typeface="Times New Roman"/>
              </a:rPr>
              <a:t>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は</a:t>
            </a:r>
            <a:r>
              <a:rPr b="0" lang="zh-CN" sz="4000" spc="-1" strike="noStrike">
                <a:solidFill>
                  <a:srgbClr val="ff2727"/>
                </a:solidFill>
                <a:latin typeface="Times New Roman"/>
              </a:rPr>
              <a:t>大聖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お一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Osaka−等幅"/>
                <a:ea typeface="平成角ゴシック"/>
              </a:rPr>
              <a:t>須弥山の一塵・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平成角ゴシック"/>
              </a:rPr>
              <a:t>大海の一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08160" y="1628640"/>
          <a:ext cx="360036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1628640"/>
                    <a:ext cx="360036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80880" y="5486400"/>
            <a:ext cx="899172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99"/>
              </a:gs>
              <a:gs pos="50000">
                <a:srgbClr val="ffff66"/>
              </a:gs>
              <a:gs pos="100000">
                <a:srgbClr val="00cc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88838" dir="2862256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一人から</a:t>
            </a:r>
            <a:r>
              <a:rPr b="0" lang="zh-CN" sz="4800" spc="-1" strike="noStrike">
                <a:solidFill>
                  <a:srgbClr val="ff2727"/>
                </a:solidFill>
                <a:latin typeface="Times New Roman"/>
              </a:rPr>
              <a:t>世界広布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実現への</a:t>
            </a:r>
            <a:r>
              <a:rPr b="0" lang="zh-CN" sz="4800" spc="-1" strike="noStrike">
                <a:solidFill>
                  <a:srgbClr val="ff2727"/>
                </a:solidFill>
                <a:latin typeface="Times New Roman"/>
              </a:rPr>
              <a:t>確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3886200"/>
            <a:ext cx="7620120" cy="1447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4357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大山も一つの塵から始ま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大海も一滴の露から始ま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84880" y="1628640"/>
          <a:ext cx="352908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4880" y="1628640"/>
                    <a:ext cx="352908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2514600"/>
            <a:ext cx="8534520" cy="243828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272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2727"/>
                </a:solidFill>
                <a:latin typeface="Times New Roman"/>
              </a:rPr>
              <a:t>社会・組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も最後は</a:t>
            </a:r>
            <a:r>
              <a:rPr b="0" lang="zh-CN" sz="4400" spc="-1" strike="noStrike">
                <a:solidFill>
                  <a:srgbClr val="ff6600"/>
                </a:solidFill>
                <a:latin typeface="Times New Roman"/>
              </a:rPr>
              <a:t>　　　　　　　　　</a:t>
            </a:r>
            <a:r>
              <a:rPr b="0" lang="zh-CN" sz="4400" spc="-1" strike="noStrike">
                <a:solidFill>
                  <a:srgbClr val="ff2727"/>
                </a:solidFill>
                <a:latin typeface="Times New Roman"/>
              </a:rPr>
              <a:t>一人の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によって決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272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2727"/>
                </a:solidFill>
                <a:latin typeface="Times New Roman"/>
              </a:rPr>
              <a:t>広宣流布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の組織も</a:t>
            </a:r>
            <a:r>
              <a:rPr b="0" lang="zh-CN" sz="4400" spc="-1" strike="noStrike">
                <a:solidFill>
                  <a:srgbClr val="ff2727"/>
                </a:solidFill>
                <a:latin typeface="Times New Roman"/>
              </a:rPr>
              <a:t>一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が大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533520"/>
            <a:ext cx="754380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大海も究極は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一滴の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大山も究極は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一つの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410080"/>
            <a:ext cx="784872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2727"/>
                </a:solidFill>
                <a:latin typeface="Times New Roman"/>
              </a:rPr>
              <a:t>一人立つ精神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こそ</a:t>
            </a:r>
            <a:r>
              <a:rPr b="0" lang="zh-CN" sz="4400" spc="-1" strike="noStrike">
                <a:solidFill>
                  <a:srgbClr val="ff2727"/>
                </a:solidFill>
                <a:latin typeface="Times New Roman"/>
              </a:rPr>
              <a:t>広布の勇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平成角ゴシック"/>
                <a:ea typeface="平成角ゴシック"/>
              </a:rPr>
              <a:t>SGI</a:t>
            </a:r>
            <a:r>
              <a:rPr b="0" lang="zh-CN" sz="5400" spc="-1" strike="noStrike">
                <a:solidFill>
                  <a:srgbClr val="3333cc"/>
                </a:solidFill>
                <a:latin typeface="平成角ゴシック"/>
                <a:ea typeface="平成角ゴシック"/>
              </a:rPr>
              <a:t>は世界へ発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9296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御在世中は全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ヶ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に広ま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現在、国内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821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万世帯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に進展し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GI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は世界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90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ヶ国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に発展し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日顕宗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は脱講者で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崩壊寸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410080"/>
            <a:ext cx="807696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25751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世界広布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は着実に進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広布の流れは必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029200"/>
            <a:ext cx="866772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2727"/>
                </a:solidFill>
                <a:latin typeface="Times New Roman"/>
              </a:rPr>
              <a:t>　広宣流布の流れ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2727"/>
                </a:solidFill>
                <a:latin typeface="Times New Roman"/>
              </a:rPr>
              <a:t>　　　誰もとめる事はできな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如来神力品第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1447920"/>
            <a:ext cx="907920" cy="838080"/>
          </a:xfrm>
          <a:custGeom>
            <a:avLst/>
            <a:gdLst>
              <a:gd name="textAreaLeft" fmla="*/ 141840 w 907920"/>
              <a:gd name="textAreaRight" fmla="*/ 729360 w 907920"/>
              <a:gd name="textAreaTop" fmla="*/ 208440 h 838080"/>
              <a:gd name="textAreaBottom" fmla="*/ 62964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370"/>
                </a:moveTo>
                <a:lnTo>
                  <a:pt x="13146" y="5370"/>
                </a:lnTo>
                <a:lnTo>
                  <a:pt x="13146" y="0"/>
                </a:lnTo>
                <a:lnTo>
                  <a:pt x="21600" y="10800"/>
                </a:lnTo>
                <a:lnTo>
                  <a:pt x="13146" y="21600"/>
                </a:lnTo>
                <a:lnTo>
                  <a:pt x="13146" y="16230"/>
                </a:lnTo>
                <a:lnTo>
                  <a:pt x="3375" y="16230"/>
                </a:lnTo>
                <a:close/>
              </a:path>
              <a:path w="21600" h="21600">
                <a:moveTo>
                  <a:pt x="0" y="5370"/>
                </a:moveTo>
                <a:lnTo>
                  <a:pt x="675" y="5370"/>
                </a:lnTo>
                <a:lnTo>
                  <a:pt x="675" y="16230"/>
                </a:lnTo>
                <a:lnTo>
                  <a:pt x="0" y="16230"/>
                </a:lnTo>
                <a:close/>
              </a:path>
              <a:path w="21600" h="21600">
                <a:moveTo>
                  <a:pt x="1350" y="5370"/>
                </a:moveTo>
                <a:lnTo>
                  <a:pt x="2700" y="5370"/>
                </a:lnTo>
                <a:lnTo>
                  <a:pt x="2700" y="16230"/>
                </a:lnTo>
                <a:lnTo>
                  <a:pt x="1350" y="1623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066680"/>
            <a:ext cx="3124080" cy="15242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80"/>
                </a:solidFill>
                <a:latin typeface="Times New Roman"/>
              </a:rPr>
              <a:t>一切衆生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80"/>
                </a:solidFill>
                <a:latin typeface="Times New Roman"/>
              </a:rPr>
              <a:t>釈尊に帰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4240" y="274320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木々はそよ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春は夏へ移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3124080"/>
            <a:ext cx="907920" cy="838440"/>
          </a:xfrm>
          <a:custGeom>
            <a:avLst/>
            <a:gdLst>
              <a:gd name="textAreaLeft" fmla="*/ 141840 w 907920"/>
              <a:gd name="textAreaRight" fmla="*/ 729360 w 907920"/>
              <a:gd name="textAreaTop" fmla="*/ 208440 h 838440"/>
              <a:gd name="textAreaBottom" fmla="*/ 63000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370"/>
                </a:moveTo>
                <a:lnTo>
                  <a:pt x="13146" y="5370"/>
                </a:lnTo>
                <a:lnTo>
                  <a:pt x="13146" y="0"/>
                </a:lnTo>
                <a:lnTo>
                  <a:pt x="21600" y="10800"/>
                </a:lnTo>
                <a:lnTo>
                  <a:pt x="13146" y="21600"/>
                </a:lnTo>
                <a:lnTo>
                  <a:pt x="13146" y="16230"/>
                </a:lnTo>
                <a:lnTo>
                  <a:pt x="3375" y="16230"/>
                </a:lnTo>
                <a:close/>
              </a:path>
              <a:path w="21600" h="21600">
                <a:moveTo>
                  <a:pt x="0" y="5370"/>
                </a:moveTo>
                <a:lnTo>
                  <a:pt x="675" y="5370"/>
                </a:lnTo>
                <a:lnTo>
                  <a:pt x="675" y="16230"/>
                </a:lnTo>
                <a:lnTo>
                  <a:pt x="0" y="16230"/>
                </a:lnTo>
                <a:close/>
              </a:path>
              <a:path w="21600" h="21600">
                <a:moveTo>
                  <a:pt x="1350" y="5370"/>
                </a:moveTo>
                <a:lnTo>
                  <a:pt x="2700" y="5370"/>
                </a:lnTo>
                <a:lnTo>
                  <a:pt x="2700" y="16230"/>
                </a:lnTo>
                <a:lnTo>
                  <a:pt x="1350" y="1623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2819520"/>
            <a:ext cx="3581280" cy="1600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2727"/>
                </a:solidFill>
                <a:latin typeface="Times New Roman"/>
              </a:rPr>
              <a:t>広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の流れ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2727"/>
                </a:solidFill>
                <a:latin typeface="Times New Roman"/>
              </a:rPr>
              <a:t>必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の原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まと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915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大聖人お一人から広布の始ま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二人、三人百人と広まる</a:t>
            </a:r>
            <a:r>
              <a:rPr b="0" lang="zh-CN" sz="4400" spc="-1" strike="noStrike">
                <a:solidFill>
                  <a:srgbClr val="ff2727"/>
                </a:solidFill>
                <a:latin typeface="Times New Roman"/>
              </a:rPr>
              <a:t>地涌の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272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2727"/>
                </a:solidFill>
                <a:latin typeface="Times New Roman"/>
              </a:rPr>
              <a:t>一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が立てば全てが変わ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272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2727"/>
                </a:solidFill>
                <a:latin typeface="Times New Roman"/>
              </a:rPr>
              <a:t>世界広布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への流れは</a:t>
            </a:r>
            <a:r>
              <a:rPr b="0" lang="zh-CN" sz="4400" spc="-1" strike="noStrike">
                <a:solidFill>
                  <a:srgbClr val="ff2727"/>
                </a:solidFill>
                <a:latin typeface="Times New Roman"/>
              </a:rPr>
              <a:t>時代の必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5029200"/>
            <a:ext cx="8381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00"/>
              </a:gs>
              <a:gs pos="50000">
                <a:srgbClr val="00ff00"/>
              </a:gs>
              <a:gs pos="100000">
                <a:srgbClr val="cc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青年・拡大の年</a:t>
            </a:r>
            <a:r>
              <a:rPr b="0" lang="zh-CN" sz="4800" spc="-1" strike="noStrike">
                <a:solidFill>
                  <a:srgbClr val="ccccff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2727"/>
                </a:solidFill>
                <a:latin typeface="Times New Roman"/>
              </a:rPr>
              <a:t>先駆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の</a:t>
            </a:r>
            <a:r>
              <a:rPr b="0" lang="zh-CN" sz="4800" spc="-1" strike="noStrike">
                <a:solidFill>
                  <a:srgbClr val="808080"/>
                </a:solidFill>
                <a:latin typeface="Times New Roman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8080"/>
                </a:solidFill>
                <a:latin typeface="Times New Roman"/>
              </a:rPr>
              <a:t>　　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戦いで</a:t>
            </a:r>
            <a:r>
              <a:rPr b="0" lang="zh-CN" sz="4800" spc="-1" strike="noStrike">
                <a:solidFill>
                  <a:srgbClr val="ff2727"/>
                </a:solidFill>
                <a:latin typeface="Times New Roman"/>
              </a:rPr>
              <a:t>使命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の実践を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1:00:25Z</dcterms:created>
  <dc:creator>Ohishi</dc:creator>
  <dc:description/>
  <dc:language>en-US</dc:language>
  <cp:lastModifiedBy>student</cp:lastModifiedBy>
  <cp:lastPrinted>2004-11-16T10:29:17Z</cp:lastPrinted>
  <dcterms:modified xsi:type="dcterms:W3CDTF">2004-12-22T01:43:41Z</dcterms:modified>
  <cp:revision>279</cp:revision>
  <dc:subject/>
  <dc:title>背景と大意</dc:title>
</cp:coreProperties>
</file>